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AD4-2385-41F7-9E54-8A075515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143-D40C-45CA-B07F-F56DDE34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979-FA16-4025-89E9-3489CFA7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981-B4E3-4DDE-9190-BFB31EF11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522-6D51-4840-B371-60A57484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126-2B65-4E05-867B-A5598DC5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5B84-0A7E-4786-9175-424999B2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8DA-6233-4C3E-80E9-03DD16D4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E1D-365A-408A-9015-ACA61B09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EDB-075E-4CF7-91AB-F79F9CD0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803-AFA8-4DA7-BA2E-B662D944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2E6F-A4CA-4566-A956-5168760A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7FB-D430-4123-887F-B49A498D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B91C-4979-4EC3-8173-210927D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03D-70EC-49D1-BF58-390F332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F02-3EF3-4016-87BB-028DB36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A21-E046-4EB6-AE22-31BCD1F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A84-6DAF-4097-A45B-5367942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8D2-03E7-48B5-9153-BB15469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643E-9362-4614-8951-675898B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0129-CB60-4B3A-A63F-EC1CFBD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12A0-F963-4F3B-802D-34904C8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A0BC-9BEB-4087-BC5D-54A4927A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C24-6A98-49A9-9954-4CBF3EAC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4C8E-21A2-4B89-9AAF-B048E972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811B-0F44-428A-9D19-989B121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4DBD-6FA9-4600-A6F8-D7DF370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ADBE-5E24-4220-9D9F-E212D6F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4C5F-CDC7-4D68-BAAA-AEA41C6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B5D-BE17-46ED-BAFC-62BF4E8D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3743-17CB-46CE-87E7-B4B3935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2655-0849-48D6-98A8-98E0CAE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5CDD-63EE-4F01-9158-147BCF4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ABA7-159D-428F-8F24-20BF0C5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CA0F-6721-4510-B968-F8FDB41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47E7-7621-49AA-94E6-173BF29F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D73D-7D06-4345-832A-6A4067CF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D1330-E843-4D4C-B6B6-4A70A3A6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11B9B-29FC-4E87-AF13-F0150AE2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3EF40-CE54-47EE-B9F9-08EAB43E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EA8-9BB4-4D21-AA4B-451C8FB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1F0D6-FC5E-4177-AC2D-6588A86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4D445-641B-425D-AB53-28D06CD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8A769-B714-416E-836F-07BA8FA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D2146-5984-4660-9CA9-088E7C8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31AA9-A766-45F7-BBA6-AA58153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A9272-BF82-436E-BC90-7A49634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08693-5385-4B74-96EC-E9AEC03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53B27-75D4-4BB2-AE47-00C01A4F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B0B3A-78C2-461F-A602-EF835B92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F5A1-0801-4BE1-A074-9F603DA0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8A9-2B95-4395-9365-CD7DD15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D1F2-5A91-4B52-83BF-D28B226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16D6-AC0D-4C92-A19A-8BEF939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BEC5-3942-4AAB-B10A-DCF6680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5583-854A-4CA8-A29B-1EA8993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2B34-8130-4E03-B758-F5DC918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672D-B1E8-4089-967B-A3F35E5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252F-50C0-418A-B9FB-ADC4F66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5E27-9EEA-4A74-AC49-8A58D9B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CB4B-C1CE-4CEB-9D76-37F7AF2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FBDD-FF8B-4E25-AF70-60147264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762-99C3-4EB5-8F39-7BD9E9DE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0AF4-2CF3-4873-8183-EF2FD126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C9B02-D18A-49FD-A764-8B62588E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45A29-F873-4DB7-95FB-0D97C0D5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BF07B-28C6-4B94-BFC7-2473745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CC6B3-E367-4215-87D0-FDD923A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9A337-052D-4424-B75B-608EDC2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C5CC8-BDB6-417B-A1BF-0D80DF0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29CE8-D4EB-41AB-8BB5-A023621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07145-C113-4D3C-93CF-710958A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B558C-CA9C-47E2-B5B9-D62B2D9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CA1-818E-443E-ABCE-7913B6E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983FD-F172-426C-AE01-18DCACF4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73CFE-6EB0-4AC8-93C3-25DB8DE5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03C72-77A3-4F91-BF6A-C26FFBBC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C4D4B-F1BB-4E69-B47E-D45810F5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43775-6416-4133-A7F5-A1D8702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950DF-D463-4FE1-BE89-E11F86C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E41AA-A374-4767-AC91-431AEB5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75A7D-4BC8-4A9E-8DA4-E070BD3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855E1-4606-4F10-AF62-21E8FD9C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4D333-B3BE-4886-9CFB-E8F2578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3BB-BC0B-42DF-B155-56DB30D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7CDED-7435-4771-82CB-6305DBE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B9621-AC39-4769-9D28-45509D9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E36A2-D74F-4372-B66B-7A9DBD29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B973E-22B2-47CC-BC03-69201A7E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F4AA3-C3A8-44CF-9AA4-A59E4EF0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60724-5F48-4F37-8EB9-70947F36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E066E-60D8-4CA8-9CF7-8E545FB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BE89D-2E32-46C6-922A-E6A8AAE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F8DF9-8D99-4DD6-A680-4B718FE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CD9C6-6355-4969-A855-FF2479F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A5C-3C65-4478-9EEF-89A755C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B5DEB-4E5A-4F0E-857C-18DEA1A7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BF668-732A-401D-B3DC-A7EFD9B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10BF2-ED4C-4251-8F77-14AF73D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C6D4C-8EE0-4C75-920A-E7D8FF3B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99431-5EEA-4288-B84D-A6E816E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73A2E-D206-4A08-83CC-92A75E5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A39EA-4B2D-4101-B2D0-61C12964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12E-F0FF-476C-B969-F9B37B302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F98-F250-4D6B-9735-8579A1D82C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5BF-3B01-4A7B-B0B6-BA59EF999A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0453-171A-437E-8D35-A011C09672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E714-933D-4298-A554-BBA5E4DAF8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D11-98F8-424D-9232-CAB904E278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D0C-F99F-42FE-84B5-0C976DD3C3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E72-A96F-41BA-B9D6-0DB2FE2597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MI- (HEMI-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l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ann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circ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preci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lun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fi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UV8CA0F6Y5PCAVEHWW5CAKIZV1UCAP2TKU8CANMO154CAUGC2Y5CA4ZSVIYCAANY3J2CAV0KFEICAV7ARPCCA017PU6CA5B4CR4CAITV4DYCAO4NI6ACAI6GABRCAYGU0RICADQQU3NCAU9BU9RCA0EN731"/>
          <p:cNvPicPr/>
          <p:nvPr/>
        </p:nvPicPr>
        <p:blipFill>
          <a:blip r:embed="rId1"/>
          <a:stretch/>
        </p:blipFill>
        <p:spPr>
          <a:xfrm>
            <a:off x="2666880" y="25909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FV4CA1J6532CAQK8CVICAYS85YFCA8NHSQNCAEYLD7BCA1VVTI8CAIRN3WCCA4CBWTUCA93QKTNCAIFDB8VCARPRLL4CAFR706XCASGR7H9CAE92W9ZCA3MZ8D5CADGV586CAB8FEOVCA07H43FCA6POYGR"/>
          <p:cNvPicPr/>
          <p:nvPr/>
        </p:nvPicPr>
        <p:blipFill>
          <a:blip r:embed="rId2"/>
          <a:stretch/>
        </p:blipFill>
        <p:spPr>
          <a:xfrm>
            <a:off x="380880" y="4114800"/>
            <a:ext cx="2286000" cy="209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emiprecious.jpg"/>
          <p:cNvPicPr/>
          <p:nvPr/>
        </p:nvPicPr>
        <p:blipFill>
          <a:blip r:embed="rId3"/>
          <a:stretch/>
        </p:blipFill>
        <p:spPr>
          <a:xfrm>
            <a:off x="5638680" y="4419720"/>
            <a:ext cx="31244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PT, SEPTEM, SEPTI, SEP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240" y="1295280"/>
            <a:ext cx="3814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v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even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ven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62520" y="12952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up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emb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month in Julian, Julius Caesar, Calendar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6" descr="U3TCAIJVQUECAVEVTSFCAZZDFQTCA00R11CCAKN1KCYCAN9YF07CANVNJB1CABQIMJGCAIKSYATCA8QYW4RCAJ8VIBOCAG758XPCAT2X12WCA5OYUX1CABLQQGBCAM3O3HRCAG87TCGCAZYSD09CARFHO6I"/>
          <p:cNvPicPr/>
          <p:nvPr/>
        </p:nvPicPr>
        <p:blipFill>
          <a:blip r:embed="rId1"/>
          <a:stretch/>
        </p:blipFill>
        <p:spPr>
          <a:xfrm>
            <a:off x="7391520" y="50292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septuplett.jpg"/>
          <p:cNvPicPr/>
          <p:nvPr/>
        </p:nvPicPr>
        <p:blipFill>
          <a:blip r:embed="rId2"/>
          <a:stretch/>
        </p:blipFill>
        <p:spPr>
          <a:xfrm>
            <a:off x="3429000" y="48769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septuplettt.jpg"/>
          <p:cNvPicPr/>
          <p:nvPr/>
        </p:nvPicPr>
        <p:blipFill>
          <a:blip r:embed="rId3"/>
          <a:stretch/>
        </p:blipFill>
        <p:spPr>
          <a:xfrm>
            <a:off x="304920" y="32004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septupletttt.jpg"/>
          <p:cNvPicPr/>
          <p:nvPr/>
        </p:nvPicPr>
        <p:blipFill>
          <a:blip r:embed="rId4"/>
          <a:stretch/>
        </p:blipFill>
        <p:spPr>
          <a:xfrm>
            <a:off x="7238880" y="1828800"/>
            <a:ext cx="1581120" cy="1981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septep.jpg"/>
          <p:cNvPicPr/>
          <p:nvPr/>
        </p:nvPicPr>
        <p:blipFill>
          <a:blip r:embed="rId5"/>
          <a:stretch/>
        </p:blipFill>
        <p:spPr>
          <a:xfrm>
            <a:off x="693432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X, SEXT, SEX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51920" y="144756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i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ix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ix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ang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an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that which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up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5" descr="GRCCAVACVLLCARAQ2V2CAUY1AF6CAHLAJNDCA853PXRCAJJHOGNCASGPZWKCA7LWC8QCACY26ESCA1K9ZAVCARDH7KYCAEWP5ECCAKOY65FCAX3CWF8CACJ2BLSCA31BD0ECA9FA3UZCA6RTOJQCA7OLOMJ"/>
          <p:cNvPicPr/>
          <p:nvPr/>
        </p:nvPicPr>
        <p:blipFill>
          <a:blip r:embed="rId1"/>
          <a:stretch/>
        </p:blipFill>
        <p:spPr>
          <a:xfrm>
            <a:off x="6553080" y="2286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IN1CA119LK5CABWTWA7CARQR547CAJBWJBBCAUOCAGKCALEH4K7CAQ789FDCAI187JWCABFFUCRCAE12XW4CAK83CBGCAVNDX5BCABWV4Z1CAUPIX3PCATY2S50CA01SHGXCAF8OBHPCACS2B4ZCAFY8T9K"/>
          <p:cNvPicPr/>
          <p:nvPr/>
        </p:nvPicPr>
        <p:blipFill>
          <a:blip r:embed="rId2"/>
          <a:stretch/>
        </p:blipFill>
        <p:spPr>
          <a:xfrm>
            <a:off x="6324480" y="4114800"/>
            <a:ext cx="2438640" cy="2362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JRUCANW3WFQCA5JF3MSCAJGRFNJCABS3AVMCAGIU3I5CAI23NAPCA4BNUU2CA9LPW31CAPJG6U7CAPM81ASCAF4AK06CAZND8EWCAQI5J0BCANEGMCCCAZRYB4SCA1UMY8QCAH256EXCAM6930SCAGZEIYH"/>
          <p:cNvPicPr/>
          <p:nvPr/>
        </p:nvPicPr>
        <p:blipFill>
          <a:blip r:embed="rId3"/>
          <a:stretch/>
        </p:blipFill>
        <p:spPr>
          <a:xfrm>
            <a:off x="2743200" y="41911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TKXCADOF7HJCAQU1POPCAOFJ8D4CAP3H83XCAKUDGJTCAS8SSCRCAAOWV6OCASAXC56CAIMJU5GCAM0SC52CA1KXKZVCAGR2BOOCALLYF7VCAX9QTSVCA1BHFD1CAGDZMSKCAW4D4YJCAMPK65HCAJNO1R7"/>
          <p:cNvPicPr/>
          <p:nvPr/>
        </p:nvPicPr>
        <p:blipFill>
          <a:blip r:embed="rId4"/>
          <a:stretch/>
        </p:blipFill>
        <p:spPr>
          <a:xfrm>
            <a:off x="3048120" y="1981080"/>
            <a:ext cx="1590480" cy="1247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YFICASJZRUUCAWP1CUGCAHLSJ5JCAESPRSBCAPGPHGPCA5LGZE8CABWDY67CANTDR4GCA9W20NBCAOT0CJ3CA08R0KFCAFG0W8TCAXO67F0CAMG51OCCAB8IC7CCAKPK4C1CAAN67PSCAD5LIA0CA8CQ7B8"/>
          <p:cNvPicPr/>
          <p:nvPr/>
        </p:nvPicPr>
        <p:blipFill>
          <a:blip r:embed="rId5"/>
          <a:stretch/>
        </p:blipFill>
        <p:spPr>
          <a:xfrm>
            <a:off x="4343400" y="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ROCARVXH51CAO01TPICA3MAT3XCA34H2HQCAQDSWXDCA48F902CA17U8RICA8XOPOTCAACPOCWCAWJ3423CAQ4S28UCAOM6CWZCA3GVESECAN9W8JDCAFS5WGNCAULCO2YCA52G1U7CA0LQ4AHCA9LBY8T"/>
          <p:cNvPicPr/>
          <p:nvPr/>
        </p:nvPicPr>
        <p:blipFill>
          <a:blip r:embed="rId6"/>
          <a:stretch/>
        </p:blipFill>
        <p:spPr>
          <a:xfrm>
            <a:off x="0" y="3809880"/>
            <a:ext cx="228600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052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bsonic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under; below; in place o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onic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uper-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; abov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onic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ran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ross; beyond; throug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nis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orous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u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full of; having the quality of; lik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0VICAAT1I3ECAKMSUR5CA6TIODDCAO0NB4JCANW6FWHCA4RV3LQCA0EL0WFCAEMC5GNCA5X8Y7ECADRAMRECA3G9QIMCA6Z8FS2CA3VIWQ0CA65MQG0CAUTGKURCAOK23V2CAVUPSYXCAIE2NTICA7IC0SA"/>
          <p:cNvPicPr/>
          <p:nvPr/>
        </p:nvPicPr>
        <p:blipFill>
          <a:blip r:embed="rId1"/>
          <a:stretch/>
        </p:blipFill>
        <p:spPr>
          <a:xfrm>
            <a:off x="2362320" y="4648320"/>
            <a:ext cx="193356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AS3CAEP2OBKCAPG54K2CA0A807ECA3X0OKUCABH7KX8CAEKECHICATNFMUGCAW4UX15CA189EWLCALCF4T9CA8RUU57CAY3C9SICAC8AMJGCAZIQ6BVCA7XXL1ACAGGJN7WCA3HMKN7CAOPZKFGCAI1TQKY"/>
          <p:cNvPicPr/>
          <p:nvPr/>
        </p:nvPicPr>
        <p:blipFill>
          <a:blip r:embed="rId2"/>
          <a:stretch/>
        </p:blipFill>
        <p:spPr>
          <a:xfrm>
            <a:off x="1143000" y="2514600"/>
            <a:ext cx="2114640" cy="1523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YB7CASWABLZCAWSDLJGCASGPS1FCAMR0P90CAE7CKJ8CALKOTINCAH33UHZCAHE7POCCA6B35FCCA3181FGCAVRMDMPCAD7H56FCA99GXZ9CAYGJOSPCA28NTX3CA0W0GUDCAX9DKYDCAT8ZB7ZCAOOXCMI"/>
          <p:cNvPicPr/>
          <p:nvPr/>
        </p:nvPicPr>
        <p:blipFill>
          <a:blip r:embed="rId3"/>
          <a:stretch/>
        </p:blipFill>
        <p:spPr>
          <a:xfrm>
            <a:off x="6781680" y="0"/>
            <a:ext cx="2114640" cy="1523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8EZCAP5G2R8CAIO6TSHCAW11ADPCAFMI4K7CAEGMYW5CAXJG29ECAFTRTW4CADMZ5SNCA12BDYACALMJBIRCA3G0AOQCAEDQ4TTCAYT73UKCA6NNB6PCA9N6KHNCACVJVFTCACG4RX9CAAKGCQBCAQ79BU2"/>
          <p:cNvPicPr/>
          <p:nvPr/>
        </p:nvPicPr>
        <p:blipFill>
          <a:blip r:embed="rId4"/>
          <a:stretch/>
        </p:blipFill>
        <p:spPr>
          <a:xfrm>
            <a:off x="0" y="4495680"/>
            <a:ext cx="208116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PIR, SPIRE, PIR, PI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16002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breath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r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spir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n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pir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ra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cross; beyond; through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pir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5" descr="A1BCAFILN44CAX1D76KCAGZNPD2CACXXNQKCAQ328PCCASRGKJGCAQ9V3AICA460ABICAWM3BAWCAU8XU4FCA8CSMGGCAJZGJM4CA7HCJHACA29YR5YCAI8TIR4CAFY4259CAS7NROACAUEBHTJCAB0WLBR"/>
          <p:cNvPicPr/>
          <p:nvPr/>
        </p:nvPicPr>
        <p:blipFill>
          <a:blip r:embed="rId1"/>
          <a:stretch/>
        </p:blipFill>
        <p:spPr>
          <a:xfrm>
            <a:off x="2819520" y="464832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D05CA1TIDSNCAQZ009HCAT7CIWVCAOVN8DMCA0SC8MDCAPQAPXFCA8N76TYCA8T3D7PCAVNKR32CAZT4RGECATJDUYFCAXBRGGUCAXS4S07CAUTD1YLCAI1SVC1CAO5SMY1CABD983BCAFVBDQ6CA1FYY94"/>
          <p:cNvPicPr/>
          <p:nvPr/>
        </p:nvPicPr>
        <p:blipFill>
          <a:blip r:embed="rId2"/>
          <a:stretch/>
        </p:blipFill>
        <p:spPr>
          <a:xfrm>
            <a:off x="7439040" y="0"/>
            <a:ext cx="170496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UTNCA05983DCAJT2NXJCA52VQJ3CAWOITTZCAVVJ5VACASR20BLCA1KWHH9CA58L5VNCAJKCOWNCAG6TJK1CAOOEMIQCAGNQ34CCAO1ET40CA02EJXZCAS3X70FCA3TMLBMCANJPO11CAIWAL4VCAEJV7GS"/>
          <p:cNvPicPr/>
          <p:nvPr/>
        </p:nvPicPr>
        <p:blipFill>
          <a:blip r:embed="rId3"/>
          <a:stretch/>
        </p:blipFill>
        <p:spPr>
          <a:xfrm>
            <a:off x="152280" y="2971800"/>
            <a:ext cx="2438640" cy="1523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JA2CALX0SDZCA6HL1XXCA2N8SSICASXUQ7DCALGWZIPCAHPY6TGCACFESK4CAY1A9YDCACMVLEQCA2XRAI8CABF9DN9CARSNLWICAP5A2DMCA0KDDEBCAY9FGOVCAPYAVWFCA1ST774CA4DPGY0CA7E2J9P"/>
          <p:cNvPicPr/>
          <p:nvPr/>
        </p:nvPicPr>
        <p:blipFill>
          <a:blip r:embed="rId4"/>
          <a:stretch/>
        </p:blipFill>
        <p:spPr>
          <a:xfrm>
            <a:off x="380880" y="4952880"/>
            <a:ext cx="194328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VU5CA9QV1H7CABAO7IPCA22E3MHCAKHQ78ACACN7YN5CAJTADIGCACTVAGJCABTCRAPCA9231CICAAX85QKCA2NJYUMCAT15VJ7CA97687GCAS3V8OTCAPU9MNXCAJXUXT6CABFOQMUCATJUJU8CAA2HGZA"/>
          <p:cNvPicPr/>
          <p:nvPr/>
        </p:nvPicPr>
        <p:blipFill>
          <a:blip r:embed="rId5"/>
          <a:stretch/>
        </p:blipFill>
        <p:spPr>
          <a:xfrm>
            <a:off x="7210440" y="4952880"/>
            <a:ext cx="193356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30T15:54:01Z</dcterms:modified>
  <cp:revision>27</cp:revision>
  <dc:subject/>
  <dc:title>Roots List #1</dc:title>
</cp:coreProperties>
</file>